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099-1316-404F-A2DB-E2FB0EA9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E91-63A6-4C55-9D7A-044D5A20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EB2-F024-41D8-9EBA-669F8657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CF7-3861-4A02-8B39-D86A2282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3AC-EAE4-489D-AFAC-9486D1C7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7EC6-014F-47EF-9390-46B1D472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120-2AB3-4107-B9F4-B4DA4EDF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616-0202-4BBB-A3A5-08DE51E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A2E3-97E7-4D56-B984-001EF29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810-5767-43D5-927F-DC7DB6C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485-563D-45BC-A3B1-13B0E93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EE2-51D9-4C24-960E-03FE40E3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35E4-D032-444C-A5CC-BF218A2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E31-D615-4FA3-A106-18942A0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965-55CB-480A-A8EA-C671743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69B-ECB4-4827-A6AA-A8503900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682E-232F-4C7B-998E-9F2BCF9A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73C-A1C3-4F69-9209-DF54EB3A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BC7-F324-41A7-9C96-CC62672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692-AAF0-4794-8993-6BA4BF7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1BF-FA5C-4BC1-9D3D-FE67D8A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658-229D-4A08-A7B4-D3F5624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300-0B7A-4DE0-9A18-9F7C93F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A99-1480-4022-9824-E427A24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70AC-F70A-432F-AB01-CCF42AA38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9C5B-C833-427A-9380-6415A863C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inass.ibrahim</cp:lastModifiedBy>
  <dcterms:modified xsi:type="dcterms:W3CDTF">2012-02-22T08:18:09Z</dcterms:modified>
  <cp:revision>21</cp:revision>
  <dc:subject/>
  <dc:title>SECTION 7.3:  Factor By Grouping</dc:title>
</cp:coreProperties>
</file>